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A81A-F593-40BD-8120-45433FB9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719-A573-47D9-B5EC-6DD2D17F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A836-6F3F-4517-BA40-D2B57955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DAB-659B-4F3E-B30D-41523886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C76-4A79-46C6-B8CE-5E01AABD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92D-73EB-4D7E-B91C-FEDF4CC0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EBF-F5E4-4D74-9A01-93915A52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5E2-F3B6-45AA-A9EB-2BF47670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9091-98D4-458D-915F-27643C16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DF11-6E39-42A5-99DB-C95D7043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8F19-901E-4AEE-AEB9-614B39EE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3B7F-9269-47F1-B1FE-C81CB93E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9C08-74C4-4810-8507-AE1761F49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228600"/>
            <a:ext cx="5334120" cy="13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Gozo</a:t>
            </a:r>
            <a:endParaRPr b="0" lang="en-US" sz="1800" spc="1" strike="noStrike">
              <a:ln w="3492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90600" y="2209680"/>
            <a:ext cx="8362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946080"/>
            <a:ext cx="75438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932040"/>
            <a:ext cx="6781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overnment of Malta</cp:lastModifiedBy>
  <dcterms:modified xsi:type="dcterms:W3CDTF">2010-07-21T08:30:4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