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789-B913-4DEB-89AF-012D840E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843-28A9-42DC-895A-5410D064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D95-86BC-45C2-A87B-343B1E9E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40F-8728-483E-BEC5-AAEFFB95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4DC-99C3-4554-9063-E192FB21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060-703E-40AC-A689-C476E339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A10-182A-41CC-B5BF-E811A7EF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D21-BC14-487F-AD6B-67465528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1D3-766C-4914-BECE-5BE51890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391-2130-4877-B974-1B8BC4C3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28A-A7B3-4B1F-80BD-1A804C89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4DD-59CC-498A-86C1-67E82CAA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2717-1428-45D2-A188-7082AA2F4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8600"/>
            <a:ext cx="533412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Gozo</a:t>
            </a:r>
            <a:endParaRPr b="0" lang="en-US" sz="1800" spc="1" strike="noStrike">
              <a:ln w="349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0600" y="2209680"/>
            <a:ext cx="836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46080"/>
            <a:ext cx="7543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932040"/>
            <a:ext cx="6781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vernment of Malta</cp:lastModifiedBy>
  <dcterms:modified xsi:type="dcterms:W3CDTF">2010-07-21T08:30:4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