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DB68-D1FC-46D5-8054-5BA4501F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DC2B-B128-495C-83A4-3B5D8C89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A106-C8E3-44DC-86DC-84862A31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1BB7-93B1-4108-BD4D-0F0ABB97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F09B-E0AA-4E19-8077-3613BB51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7DBC-3FE4-4BFF-9486-254E7876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28CD-AC8B-463B-9F6F-68E70C4B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66A2-3648-414C-93EF-A0401C71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98CB-CB0B-453B-A361-10D22304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77C5-C8A3-4DA1-BAB9-74BB7538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020A-AAC3-45BE-B1AB-90B705E6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E30B-F53E-41F9-8EFD-4AD49009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2E11-66A1-44EA-8FA5-B1DF0C962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228600"/>
            <a:ext cx="5334120" cy="13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Gozo</a:t>
            </a:r>
            <a:endParaRPr b="0" lang="en-US" sz="1800" spc="1" strike="noStrike">
              <a:ln w="3492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90600" y="2209680"/>
            <a:ext cx="8362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946080"/>
            <a:ext cx="75438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932040"/>
            <a:ext cx="6781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overnment of Malta</cp:lastModifiedBy>
  <dcterms:modified xsi:type="dcterms:W3CDTF">2010-07-21T08:30:4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