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A98-D245-40F3-BF9D-2380C6DB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F93-8B25-4A35-8A43-ADBABDA5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8D0-7455-40F9-9EE6-3201BFD3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D88-B527-4984-8D7E-E7078902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93B-44EC-47B7-A1EC-5D7296D3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E10-D771-4C36-95E1-BB81D148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14A-26AA-450E-B6A7-D388164A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C82-7823-496B-974B-08257503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D48-FF4A-48BE-B191-208EE8DC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0C8-B832-4E01-974B-BCAB572E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358-3DB2-4DEF-948D-BE543FA4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07E-3D7F-4449-926E-4525AA50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995D-4F87-454A-AFDA-96DF69A11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228600"/>
            <a:ext cx="533412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Gozo</a:t>
            </a:r>
            <a:endParaRPr b="0" lang="en-US" sz="1800" spc="1" strike="noStrike">
              <a:ln w="349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0600" y="2209680"/>
            <a:ext cx="8362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46080"/>
            <a:ext cx="7543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66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932040"/>
            <a:ext cx="6781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vernment of Malta</cp:lastModifiedBy>
  <dcterms:modified xsi:type="dcterms:W3CDTF">2010-07-21T08:30:4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