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8D3-44DC-4D50-8F02-E5A33C87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546-5CF1-4D63-AEE2-A465CCB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710-BE5B-4C91-B531-EEAD3E7E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E51-808B-4E79-BB6E-A00D3861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A9A-9507-4D3C-8862-7E1F9C71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8C4-A505-4FE5-A8AE-148E9680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17C-EAD9-4A45-AF31-6B0016C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443-2262-45B1-BE6C-253B9D4B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311-AE3A-4535-93EC-348280AF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441-7056-48F9-9797-D0097EA7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E45-CFEC-4C68-964B-9695F00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01B-3B77-4F98-BB64-BE252C5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C35-649D-45A1-A7A8-D4424938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53341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Gozo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00" y="2209680"/>
            <a:ext cx="836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46080"/>
            <a:ext cx="7543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3204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vernment of Malta</cp:lastModifiedBy>
  <dcterms:modified xsi:type="dcterms:W3CDTF">2010-07-21T08:30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